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5D0-0018-4772-9A85-6A64BBAA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7E4-E8DC-4614-8BAE-7229A7A0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64C-9F04-4208-9589-E544746C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019-D1A3-42CC-A591-95E0737B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AD2-BD9C-45CD-9E77-9A7A50F1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C6C-8E81-42CB-B916-53A7F4E0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6ED-9132-451C-AF1C-28821A9E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325-7498-4BD0-8F2D-2D9CAE18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885-1FD5-4210-9D87-949FDDD4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DE0-20F5-4DDB-8B9C-5D21C5A8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545-71F8-49D3-9F31-16A2B4C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91C-78A6-450C-A6A5-86BAC1C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8029-20FA-43FA-9297-A110D881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33:25Z</dcterms:created>
  <dc:creator>Patrick J. Mooney</dc:creator>
  <dc:description/>
  <dc:language>en-US</dc:language>
  <cp:lastModifiedBy>Patrick J. Mooney</cp:lastModifiedBy>
  <dcterms:modified xsi:type="dcterms:W3CDTF">2011-12-01T02:34:27Z</dcterms:modified>
  <cp:revision>1</cp:revision>
  <dc:subject/>
  <dc:title>Slide 1</dc:title>
</cp:coreProperties>
</file>